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7920" y="38023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08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7920" y="3802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080" y="3802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2949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2949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7920" y="3802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802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802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7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080" y="12949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080" y="12949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7920" y="3802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08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080" y="3802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080" y="12949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7920" y="38023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17520" y="1143000"/>
            <a:ext cx="8821800" cy="151920"/>
            <a:chOff x="317520" y="1143000"/>
            <a:chExt cx="8821800" cy="151920"/>
          </a:xfrm>
        </p:grpSpPr>
        <p:sp>
          <p:nvSpPr>
            <p:cNvPr id="3" name=""/>
            <p:cNvSpPr/>
            <p:nvPr/>
          </p:nvSpPr>
          <p:spPr>
            <a:xfrm>
              <a:off x="1679760" y="1143000"/>
              <a:ext cx="7459560" cy="150480"/>
            </a:xfrm>
            <a:custGeom>
              <a:avLst/>
              <a:gdLst/>
              <a:ahLst/>
              <a:rect l="l" t="t" r="r" b="b"/>
              <a:pathLst>
                <a:path w="4699" h="95">
                  <a:moveTo>
                    <a:pt x="4698" y="94"/>
                  </a:moveTo>
                  <a:lnTo>
                    <a:pt x="0" y="94"/>
                  </a:lnTo>
                  <a:lnTo>
                    <a:pt x="204" y="0"/>
                  </a:lnTo>
                  <a:lnTo>
                    <a:pt x="4698" y="0"/>
                  </a:lnTo>
                  <a:lnTo>
                    <a:pt x="4698" y="94"/>
                  </a:lnTo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94040" y="1143000"/>
              <a:ext cx="782640" cy="150480"/>
            </a:xfrm>
            <a:custGeom>
              <a:avLst/>
              <a:gdLst/>
              <a:ahLst/>
              <a:rect l="l" t="t" r="r" b="b"/>
              <a:pathLst>
                <a:path w="493" h="95">
                  <a:moveTo>
                    <a:pt x="303" y="92"/>
                  </a:moveTo>
                  <a:lnTo>
                    <a:pt x="0" y="94"/>
                  </a:lnTo>
                  <a:lnTo>
                    <a:pt x="177" y="0"/>
                  </a:lnTo>
                  <a:lnTo>
                    <a:pt x="492" y="0"/>
                  </a:lnTo>
                  <a:lnTo>
                    <a:pt x="303" y="92"/>
                  </a:lnTo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50880" y="1147680"/>
              <a:ext cx="611280" cy="147240"/>
            </a:xfrm>
            <a:custGeom>
              <a:avLst/>
              <a:gdLst/>
              <a:ahLst/>
              <a:rect l="l" t="t" r="r" b="b"/>
              <a:pathLst>
                <a:path w="385" h="93">
                  <a:moveTo>
                    <a:pt x="198" y="92"/>
                  </a:moveTo>
                  <a:lnTo>
                    <a:pt x="0" y="92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198" y="92"/>
                  </a:lnTo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17520" y="1147680"/>
              <a:ext cx="487440" cy="147240"/>
            </a:xfrm>
            <a:custGeom>
              <a:avLst/>
              <a:gdLst/>
              <a:ahLst/>
              <a:rect l="l" t="t" r="r" b="b"/>
              <a:pathLst>
                <a:path w="307" h="93">
                  <a:moveTo>
                    <a:pt x="120" y="92"/>
                  </a:moveTo>
                  <a:lnTo>
                    <a:pt x="0" y="88"/>
                  </a:lnTo>
                  <a:lnTo>
                    <a:pt x="177" y="0"/>
                  </a:lnTo>
                  <a:lnTo>
                    <a:pt x="306" y="0"/>
                  </a:lnTo>
                  <a:lnTo>
                    <a:pt x="120" y="92"/>
                  </a:lnTo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1360" y="1968120"/>
            <a:ext cx="8801280" cy="13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pproach to reformatting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Communications Architecture (SC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OMG Submission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ke McClime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Oct 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Effort to 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920" y="12697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pose is to develop an approach to reformatting the SCA for submission to the OMG in response to the Depl. &amp; Conf. RF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efforts were taken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ke McClimens (MITRE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avid Fitkin (Rockwell Collins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nt out for working group review (Kevin Richardson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efforts addres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dentification of applicable SCA section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nsideration for tracing requirement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view of OMG Style Guides and sample document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G Naming service, CORBA Components 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formatting of sample SCA section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.3.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Application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.3.2.4&amp;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 &amp; Loadable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termination that SCA version 2.2 would form the basis for submission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ble Sections of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44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7160" indent="-227160" algn="just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of the SCA will be applicable to the submitt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0320" indent="-28008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       INTRODUCTION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04 pag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FYI  info onl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3.1.3 Core Framework.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93 pag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CF Interfac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4.2   Class Structure.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0 pag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HW properti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5       Security Architecture Definition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02 pag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Security for CF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0">
              <a:spcBef>
                <a:spcPts val="224"/>
              </a:spcBef>
              <a:buNone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27160" indent="-227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CA Sections no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ble to the submitt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2          Overview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6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3.1.1-2 Operating System, Middleware &amp; Servic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3page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3.2-4    Applications, Logical Device, SW Rul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0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4.3-5    Domain Criteria, Performance, HW Rule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3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4.4       Performance Related Issues.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4.5      General Hardware Rules.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6  Common Services &amp; Deployment Considerations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-280080">
              <a:spcBef>
                <a:spcPts val="224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7         Architecture Compliance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Times New Roman"/>
              </a:rPr>
              <a:t>1 pag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0">
              <a:spcBef>
                <a:spcPts val="224"/>
              </a:spcBef>
              <a:buNone/>
              <a:tabLst>
                <a:tab algn="l" pos="0"/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0" algn="just">
              <a:spcBef>
                <a:spcPts val="224"/>
              </a:spcBef>
              <a:buNone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670320" indent="0" algn="just">
              <a:spcBef>
                <a:spcPts val="224"/>
              </a:spcBef>
              <a:buNone/>
              <a:tabLst>
                <a:tab algn="l" pos="5032440"/>
                <a:tab algn="l" pos="6229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626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ing Compatibility Acro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CA and OMG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8610480" cy="538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ing compatibility with new SCA releases will be difficul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termine baseline for initial submittal: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CA version 2.2  (Nov 17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lanned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termine OMG version update process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BD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rder to retain a traceability of requirements between this edited version and SCA 2.1 (or later), reccommend annotating each shall with an id of the for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XXXnnn0]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xxx 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&amp;S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ddleware and Servic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S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sources (Base Application Resourc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OM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omain Manager (Framework control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V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evic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fil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PP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WA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ardware Architecture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C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798480"/>
                <a:tab algn="l" pos="182736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91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nverting SCA to OMG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1424160"/>
            <a:ext cx="8610480" cy="50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Level 5 paragraphs for interfaces (with UM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480" indent="-259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se Level 6 paragraphs for operations and try to eliminate all other paragraph numbering at Level 6 or above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olded, unnumbered header (possibly italicized)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480" indent="-259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ubparagraphs of interfaces (UML and type/exception declarations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26480" indent="-259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ubparagraphs of operations (Behavior) 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nt and bold ID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_na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allows redundant wording in text to re reduc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480" indent="-2599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125000"/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o not start sentences with lower case words (e. g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functionally-rel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IDL) when pos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umber to redule levels of paragraphs (not done in sampl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6480" indent="-25992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3.1.3.1 Framework Control Interfaces” should be level 3.1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16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ograp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OMG IDL Style Gu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ography conventions 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the same as those published in OMG documents.)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31840" indent="-23184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s Roman 10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inary text appears in this fon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vetica Bold 10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L statements appear in this font as do IDL references embedded in the tex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-Bold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Courier Bold 10: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-Bold"/>
              </a:rPr>
              <a:t>File names and programming language code appear in this fon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48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920" y="252720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“shall” statements be reprha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paragraphs be ind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numbering extend as mu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margins mand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8:09:45Z</dcterms:created>
  <dc:creator>don wampler</dc:creator>
  <dc:description/>
  <dc:language>en-US</dc:language>
  <cp:lastModifiedBy>mcclimem</cp:lastModifiedBy>
  <cp:lastPrinted>2001-10-01T16:11:03Z</cp:lastPrinted>
  <dcterms:modified xsi:type="dcterms:W3CDTF">2001-11-09T16:23:19Z</dcterms:modified>
  <cp:revision>181</cp:revision>
  <dc:subject/>
  <dc:title>JTRS Test Plan</dc:title>
</cp:coreProperties>
</file>